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4114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AEA-08E9-43EB-96C3-7F426B4B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8B5-EAB4-4AB6-975A-92C2051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294-FB45-4813-B305-A02696FC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484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4600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6368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920484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24600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64F-BE42-4655-84B0-30BE9FBC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356-3F24-4A48-B088-10E5C60F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B5F-9DDC-46D8-80C3-D453F38A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0997-CFAD-4515-93EA-0D07460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428-19A0-4AB8-9AEE-F9C8BB92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63680" y="3660480"/>
            <a:ext cx="35736120" cy="317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F0E-073F-4487-813B-EE1EE4E7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504-017A-4383-A4FC-847E30C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E13-D787-43EC-AE18-D6F3190D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BE1-600D-4F1C-B29A-9A94175B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marL="608040" indent="-608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506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2019240" indent="-399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2832120" indent="-407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3680" y="37486800"/>
            <a:ext cx="876276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4800" y="37486800"/>
            <a:ext cx="1331424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37040" y="37486800"/>
            <a:ext cx="876312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fld id="{736EB59E-56F3-4C3D-A9DB-55D9CD242E80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590000" y="23402880"/>
            <a:ext cx="1712880" cy="394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biocyc.org/otherpgdbs.shtml" TargetMode="External"/><Relationship Id="rId5" Type="http://schemas.openxmlformats.org/officeDocument/2006/relationships/hyperlink" Target="http://biocyc.org/query.shtml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89240" y="279360"/>
            <a:ext cx="33299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An Advanced Web Query Interface for Biological Databas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9320" y="1714680"/>
            <a:ext cx="264063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Peter D. Karp, Mario Latendres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 Research Group, SRI International, Menlo Park CA US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bioinformatics.ai.sri.com/ptools/          BioCyc.or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5915160"/>
            <a:ext cx="12538080" cy="12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ftware [1] is used to create, query, curate, and analyze Pathway/Genome Databases (PGDBs). A PGDB integrates information about genomes, metabolic pathways, and regulatory network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operations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 and update genome and pathway anno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tion of metabolic network from genome sequ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 analysis of omics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analysis and debug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arge number of PGDBs are accessible on the Internet from Pathway Tools based Web sites that provide the exploration capabilities described 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 Avai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y available to academics and non-profits.  Licensed by 2,100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s on PC/Linux, PC/Windows, Macinto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1] Karp, P.D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efings in Bioinformat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 11:40-79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2] Latendresse, M. and Karp, P.D.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pported b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rants GM75742 and GM080746 from the National Institutes of Healt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9973880"/>
            <a:ext cx="2004372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299280" y="736560"/>
            <a:ext cx="2022480" cy="15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273320" y="487692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Pathway/Genome Databases on the Intern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71760" y="4902120"/>
            <a:ext cx="1055520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Structured Advanced Query For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720" y="17915040"/>
            <a:ext cx="0" cy="865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34040" y="2482920"/>
            <a:ext cx="2691000" cy="9367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29240" y="1028880"/>
            <a:ext cx="2097360" cy="8841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4800600"/>
            <a:ext cx="1135368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4120" y="5991120"/>
            <a:ext cx="12769560" cy="9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PGDBs  include the following.  Web links to all available from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ioCyc.org/otherpgdbs.s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find them using Goog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b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Cyc – 670 microbial PGDBs including EcoCyc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-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oCyc – 33 Bioenergy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reptomyces coeli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C – Bacterial patho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iCyc – 8 apicomplexan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g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ast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bi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Cyc – 7 Solanacea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amy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lamydomonas reinhardt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a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abidopsis thal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e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ryza s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Cyc – General plant PGD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mmal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useCyc, HumanCyc, CattleCy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040" y="4287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er E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555560" y="428760"/>
            <a:ext cx="4194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ter K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33 Ravenswood Ave, Menlo Park CA 94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50-859-43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360400" y="6102360"/>
            <a:ext cx="12080880" cy="83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precise and complicated queries against biological databases (DBs) usually requires programming ski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Web-based DB query forms are quite restricted in power of queries they can sup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Structured Advanced Query Form (SAQP)  [2]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ecise and complica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multiple conditions and conn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connections between object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ma driv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documentation on DB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o find the SAQP on the Web: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biocyc.org/query.s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 -&gt; Advanced at any Pathway Tools driven Web s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362320" y="19964520"/>
            <a:ext cx="9239040" cy="1143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438280" y="32489640"/>
            <a:ext cx="9172800" cy="842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4935320" y="19354680"/>
            <a:ext cx="10515600" cy="11325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5468480" y="31470480"/>
            <a:ext cx="9734760" cy="960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29184480" y="19345320"/>
            <a:ext cx="9239400" cy="1143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9260800" y="31699080"/>
            <a:ext cx="9229680" cy="816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0632400"/>
            <a:ext cx="685800" cy="213372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81288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9232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8288000"/>
            <a:ext cx="8076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nitial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mpounds whose molecular weight is between 400 and 4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 result table that includes the compound name, chemical formula, and molecular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49720" y="1781496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dditional condition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valued slot Regulates, which lists regulation interactions that the compound regulates, must have more than 0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0" y="1722132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additional conditions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ulation interaction must have a parent class whose name includes the string “enzym”, indicating that it involves regulation of 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 of regulation must be positive (ac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868280" y="1638288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Example Queries and Their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1:57:24Z</dcterms:created>
  <dc:creator>Peter Karp</dc:creator>
  <dc:description/>
  <dc:language>en-US</dc:language>
  <cp:lastModifiedBy>GMOD / NESCent</cp:lastModifiedBy>
  <cp:lastPrinted>2000-09-13T00:15:44Z</cp:lastPrinted>
  <dcterms:modified xsi:type="dcterms:W3CDTF">2010-07-15T16:19:48Z</dcterms:modified>
  <cp:revision>194</cp:revision>
  <dc:subject/>
  <dc:title>EcoCyc/MetaCyc Poster</dc:title>
</cp:coreProperties>
</file>